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564-ECA8-4B4E-BF43-FADF48FF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592-153B-4AEC-9BD6-04189524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8AE-FE03-4B1D-B17B-EFC45AE9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F23-5665-44A6-9EE1-5CA3A85F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969-F057-41F3-84F9-401833F2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537-8D00-4E8F-92B1-E5EF3EF6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B89-8F9D-4914-9FB9-BDF4CACF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A0F-F307-485A-B175-3F22A6A6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D2D-2C52-4F5B-B3B6-DE2A890C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93F-12E3-4F2B-B3E3-73A0EBD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FB1-3231-4152-8688-564F237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FCD-3FE5-47CC-9792-116FA8D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E52B-E281-4C1F-ABA4-AA91F296A6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hy M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rst, a look at our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ur meetings in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mmer resear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en meetings in the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st Lake MUN, November 14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IMUN in March, 2009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other middle school event in 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ssibly a conference in May of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 are a ne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N is the “track and field” of academic extracurricular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ublic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ing and writ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rre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 want to lead a coun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simulate means to pretend, and you are pretending to be a decision m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cover new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nderstand the issues in today’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arn new vocabulary and conce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ttempt to solve the world’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ind out that this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veryone else is doing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ving in an international setting, you already understand that many of the challenges facing humans respect no national bound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 need informed businessman, doctors, lawyers, scientists, teachers, IT professionals, artists, financiers, politicians, professors, and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y mom said I have 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N is one of the most widely-recognized extra curricular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ny 1000s of particip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oks great on a college 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ch Uproar over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want to travel and meet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ferences can involve students from all over the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k hard, play h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ny professional relationships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t con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ference leadership can be very exci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eech sn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k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the problem /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the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of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of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eech sn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of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ment of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5:52:39Z</dcterms:created>
  <dc:creator>trobinson</dc:creator>
  <dc:description/>
  <dc:language>en-US</dc:language>
  <cp:lastModifiedBy>trobinson</cp:lastModifiedBy>
  <dcterms:modified xsi:type="dcterms:W3CDTF">2008-05-06T08:38:12Z</dcterms:modified>
  <cp:revision>3</cp:revision>
  <dc:subject/>
  <dc:title>Why MUN?</dc:title>
</cp:coreProperties>
</file>